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892-43FB-4CC5-9A03-DF08833C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BE5-1F4B-401E-A6C2-0879D6E3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8F1-DA95-49F2-B40D-4A7D9035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F65-E820-46F0-84D5-E38B7279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BB41-651F-4768-BA9D-2C3DE13C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0CDC-EC04-42F6-AF9C-8509EC0B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FC51-527A-4625-B31D-80D6A67A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FE4D-732F-4B8A-824D-E6BA7683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DFBF-CBD3-4874-BA95-9713AC34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E089-D0A9-48B7-9798-B6998731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D264-6194-4796-8CE9-AE7310B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7C9-CA7E-44F2-93DA-15AFEF7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ACD0-F7E1-4086-8372-98B3B8E6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0398-42BC-4F67-82C9-6CC6A08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BB15-97D4-45B8-822D-41C4F0D1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0F4-D9F4-4FDD-837B-E32C1476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EFCE-3CEE-4703-B902-F5C928D4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6A33-ECD3-4641-85E7-A5CBD4F6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8277-391C-4024-BCC6-8782D1E5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B157-DC58-464A-8339-7FBC3654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022C-1A69-4CFA-91E9-26C64961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3CCE-69E0-4284-B25E-ADE2FBA6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EF4-647A-4ECE-893B-5A7BB6A1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978B-764F-4885-9EE3-C60D90F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A95F-A105-4691-851D-075A33FD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1AA7-9810-4E0E-A0E7-57C2AF8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717A-E69D-42B4-93BC-EAD7E9D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D6FC-2FC6-486C-822E-CC1C45C9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6D8C5-CE84-4BD0-84C5-8B2FD494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D043-E530-45B6-AD84-BB3109FC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42B1-8887-439D-985B-E0BFBE2E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2197-15C5-4CE0-957A-17E54601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CA95-7F36-4C8A-ADDB-F7338C88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BDC-A3E4-479F-8CA4-077F67C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03CB0-7F43-4CC9-A093-5B0D00CF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4E97-C75F-4780-BCC5-6E8F7049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0BEB-2B70-467C-AC2D-9F9B2672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668E-6407-44CD-88EB-45233BA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DDCA-EF03-4B24-9384-83AAABB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30D3-4F4D-4E32-B3B8-67A6ADD9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55DA-AF33-461F-8957-ABA2C16F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EC60-7EAA-40EA-A84D-1EEE0B05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F8EE-44B3-471B-B125-FCF759FF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DF3-F202-4FCA-966F-FB8E99F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5E3-603B-4B65-8F96-08ACB97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CBE-3A47-4E9B-8912-E61E8AFC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A7C-F097-4BEA-BB06-2EA28297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E92-F8A6-4DF3-BF0C-D87B7164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451-D40A-4F2E-A356-C5763AC44CC6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BC1A-75D1-4191-AC66-F971104EF68E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C34F-5E8A-4148-8243-3032A1DBC54E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0DCF-7C41-4D37-9282-69A764B69617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midSbKhTs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http://www.cq.ufam.edu.br/download/Gifts/Professores/4955190.gif"/>
          <p:cNvPicPr/>
          <p:nvPr/>
        </p:nvPicPr>
        <p:blipFill>
          <a:blip r:embed="rId1"/>
          <a:stretch/>
        </p:blipFill>
        <p:spPr>
          <a:xfrm>
            <a:off x="5508720" y="3222720"/>
            <a:ext cx="3635280" cy="3635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t3.gstatic.com/images?q=tbn:ANd9GcQKjpZJJYUQqbanyccnLIO-YtQOLjdd0GcL3BgcizpzOjnW8G4&amp;t=1&amp;usg=__8j_3jyvjpdaNlHGj8865UEP-uAE="/>
          <p:cNvPicPr/>
          <p:nvPr/>
        </p:nvPicPr>
        <p:blipFill>
          <a:blip r:embed="rId2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97" name="Título 6" descr=""/>
          <p:cNvPicPr/>
          <p:nvPr/>
        </p:nvPicPr>
        <p:blipFill>
          <a:blip r:embed="rId3"/>
          <a:stretch/>
        </p:blipFill>
        <p:spPr>
          <a:xfrm>
            <a:off x="-249120" y="1463760"/>
            <a:ext cx="8332560" cy="2558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-684720" y="4797000"/>
            <a:ext cx="6048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rofesso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Moisés Rodrigo Galony Dos Santo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Propriedades Coligativas: Os efeitos da temperatura sobre a pressão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presente atividade foi realizada com os alunos do 2º A da Escola Reynaldo Mass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etângulo 3"/>
          <p:cNvSpPr/>
          <p:nvPr/>
        </p:nvSpPr>
        <p:spPr>
          <a:xfrm>
            <a:off x="395280" y="3429000"/>
            <a:ext cx="8353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Objetivos: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Verificar como efetuar o abaixamento da temperatura de congelamento de um líquido, provocado pela dissolução de outra substância, no caso o sal de cozinha (NaC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mpreender propriedades colig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hecimento adquiri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iagrama de f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Tonosco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buliosco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riosco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mosco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Quimica_TD_fig03"/>
          <p:cNvPicPr/>
          <p:nvPr/>
        </p:nvPicPr>
        <p:blipFill>
          <a:blip r:embed="rId1"/>
          <a:stretch/>
        </p:blipFill>
        <p:spPr>
          <a:xfrm>
            <a:off x="5219640" y="1916280"/>
            <a:ext cx="3322800" cy="4481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agua_diagr_est1"/>
          <p:cNvPicPr/>
          <p:nvPr/>
        </p:nvPicPr>
        <p:blipFill>
          <a:blip r:embed="rId2"/>
          <a:stretch/>
        </p:blipFill>
        <p:spPr>
          <a:xfrm>
            <a:off x="0" y="4869000"/>
            <a:ext cx="5133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tividade aos alun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s alunos foram divididos em 5 grup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ada grupo teria que confeccionar um vídeo explicando sua determinada propried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Result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Botão de ação: Filme 3">
            <a:hlinkClick r:id="rId1"/>
          </p:cNvPr>
          <p:cNvSpPr/>
          <p:nvPr/>
        </p:nvSpPr>
        <p:spPr>
          <a:xfrm>
            <a:off x="2195640" y="4292640"/>
            <a:ext cx="3240000" cy="1512720"/>
          </a:xfrm>
          <a:custGeom>
            <a:avLst/>
            <a:gdLst>
              <a:gd name="textAreaLeft" fmla="*/ 97920 w 3240000"/>
              <a:gd name="textAreaRight" fmla="*/ 3142080 w 3240000"/>
              <a:gd name="textAreaTop" fmla="*/ 97920 h 1512720"/>
              <a:gd name="textAreaBottom" fmla="*/ 1414800 h 1512720"/>
            </a:gdLst>
            <a:ahLst/>
            <a:rect l="textAreaLeft" t="textAreaTop" r="textAreaRight" b="textAreaBottom"/>
            <a:pathLst>
              <a:path w="46258" h="21600">
                <a:moveTo>
                  <a:pt x="0" y="0"/>
                </a:moveTo>
                <a:lnTo>
                  <a:pt x="46258" y="0"/>
                </a:lnTo>
                <a:lnTo>
                  <a:pt x="46258" y="21600"/>
                </a:lnTo>
                <a:lnTo>
                  <a:pt x="0" y="21600"/>
                </a:lnTo>
                <a:close/>
              </a:path>
              <a:path fill="lightenLess" w="46258" h="21600">
                <a:moveTo>
                  <a:pt x="0" y="0"/>
                </a:moveTo>
                <a:lnTo>
                  <a:pt x="46258" y="0"/>
                </a:lnTo>
                <a:lnTo>
                  <a:pt x="44858" y="1400"/>
                </a:lnTo>
                <a:lnTo>
                  <a:pt x="1400" y="1400"/>
                </a:lnTo>
                <a:close/>
              </a:path>
              <a:path fill="darken" w="46258" h="21600">
                <a:moveTo>
                  <a:pt x="46258" y="0"/>
                </a:moveTo>
                <a:lnTo>
                  <a:pt x="46258" y="21600"/>
                </a:lnTo>
                <a:lnTo>
                  <a:pt x="44858" y="20200"/>
                </a:lnTo>
                <a:lnTo>
                  <a:pt x="44858" y="1400"/>
                </a:lnTo>
                <a:close/>
              </a:path>
              <a:path fill="darkenLess" w="46258" h="21600">
                <a:moveTo>
                  <a:pt x="462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8" y="20200"/>
                </a:lnTo>
                <a:close/>
              </a:path>
              <a:path fill="lighten" w="462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8" h="21600">
                <a:moveTo>
                  <a:pt x="16122" y="7301"/>
                </a:moveTo>
                <a:lnTo>
                  <a:pt x="17036" y="7301"/>
                </a:lnTo>
                <a:lnTo>
                  <a:pt x="17419" y="7667"/>
                </a:lnTo>
                <a:lnTo>
                  <a:pt x="26628" y="7667"/>
                </a:lnTo>
                <a:lnTo>
                  <a:pt x="27185" y="8224"/>
                </a:lnTo>
                <a:lnTo>
                  <a:pt x="27185" y="8772"/>
                </a:lnTo>
                <a:lnTo>
                  <a:pt x="29030" y="8772"/>
                </a:lnTo>
                <a:lnTo>
                  <a:pt x="29396" y="8224"/>
                </a:lnTo>
                <a:lnTo>
                  <a:pt x="30135" y="8224"/>
                </a:lnTo>
                <a:lnTo>
                  <a:pt x="30135" y="13376"/>
                </a:lnTo>
                <a:lnTo>
                  <a:pt x="29396" y="13376"/>
                </a:lnTo>
                <a:lnTo>
                  <a:pt x="29030" y="12828"/>
                </a:lnTo>
                <a:lnTo>
                  <a:pt x="27185" y="12828"/>
                </a:lnTo>
                <a:lnTo>
                  <a:pt x="27185" y="14107"/>
                </a:lnTo>
                <a:lnTo>
                  <a:pt x="17602" y="14107"/>
                </a:lnTo>
                <a:lnTo>
                  <a:pt x="17602" y="9877"/>
                </a:lnTo>
                <a:lnTo>
                  <a:pt x="17419" y="9877"/>
                </a:lnTo>
                <a:lnTo>
                  <a:pt x="17036" y="10243"/>
                </a:lnTo>
                <a:lnTo>
                  <a:pt x="16122" y="1024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3:42:39Z</dcterms:created>
  <dc:creator>Moises</dc:creator>
  <dc:description/>
  <dc:language>en-US</dc:language>
  <cp:lastModifiedBy>Moises</cp:lastModifiedBy>
  <dcterms:modified xsi:type="dcterms:W3CDTF">2010-08-23T14:24:19Z</dcterms:modified>
  <cp:revision>4</cp:revision>
  <dc:subject/>
  <dc:title>Slide 1</dc:title>
</cp:coreProperties>
</file>